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8.png" ContentType="image/png"/>
  <Override PartName="/ppt/media/image7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19.jpeg" ContentType="image/jpeg"/>
  <Override PartName="/ppt/media/image6.wmf" ContentType="image/x-wmf"/>
  <Override PartName="/ppt/media/image11.wmf" ContentType="image/x-wmf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911" spc="-1" strike="noStrike">
                <a:solidFill>
                  <a:srgbClr val="000000"/>
                </a:solidFill>
                <a:latin typeface="Arial"/>
              </a:defRPr>
            </a:pPr>
            <a:r>
              <a:rPr b="0" sz="911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64334918448069"/>
          <c:y val="0.019997500312460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22984626921635"/>
          <c:w val="0.959957335229545"/>
          <c:h val="0.8563929508811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7</c:v>
                </c:pt>
                <c:pt idx="1">
                  <c:v>3</c:v>
                </c:pt>
                <c:pt idx="2">
                  <c:v>13</c:v>
                </c:pt>
                <c:pt idx="3">
                  <c:v>8</c:v>
                </c:pt>
                <c:pt idx="4">
                  <c:v>5</c:v>
                </c:pt>
                <c:pt idx="5">
                  <c:v>6</c:v>
                </c:pt>
                <c:pt idx="6">
                  <c:v>6</c:v>
                </c:pt>
                <c:pt idx="7">
                  <c:v>7</c:v>
                </c:pt>
                <c:pt idx="8">
                  <c:v>0</c:v>
                </c:pt>
                <c:pt idx="9">
                  <c:v>0</c:v>
                </c:pt>
                <c:pt idx="10">
                  <c:v>2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08130081300813</c:v>
                </c:pt>
                <c:pt idx="1">
                  <c:v>4.97560975609756</c:v>
                </c:pt>
                <c:pt idx="2">
                  <c:v>13.8211382113821</c:v>
                </c:pt>
                <c:pt idx="3">
                  <c:v>12.7154471544715</c:v>
                </c:pt>
                <c:pt idx="4">
                  <c:v>6.63414634146341</c:v>
                </c:pt>
                <c:pt idx="5">
                  <c:v>6.63414634146341</c:v>
                </c:pt>
                <c:pt idx="6">
                  <c:v>3.31707317073171</c:v>
                </c:pt>
                <c:pt idx="7">
                  <c:v>5.52845528455285</c:v>
                </c:pt>
                <c:pt idx="8">
                  <c:v>1.10569105691057</c:v>
                </c:pt>
                <c:pt idx="9">
                  <c:v>1.38211382113821</c:v>
                </c:pt>
                <c:pt idx="10">
                  <c:v>1.38211382113821</c:v>
                </c:pt>
                <c:pt idx="11">
                  <c:v>1.10569105691057</c:v>
                </c:pt>
                <c:pt idx="12">
                  <c:v>0.552845528455285</c:v>
                </c:pt>
                <c:pt idx="13">
                  <c:v>0.552845528455285</c:v>
                </c:pt>
                <c:pt idx="14">
                  <c:v>1.10569105691057</c:v>
                </c:pt>
                <c:pt idx="15">
                  <c:v>1.10569105691057</c:v>
                </c:pt>
              </c:numCache>
            </c:numRef>
          </c:val>
        </c:ser>
        <c:gapWidth val="100"/>
        <c:overlap val="0"/>
        <c:axId val="97909950"/>
        <c:axId val="61982095"/>
      </c:barChart>
      <c:catAx>
        <c:axId val="9790995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82095"/>
        <c:crossesAt val="0"/>
        <c:auto val="1"/>
        <c:lblAlgn val="ctr"/>
        <c:lblOffset val="100"/>
        <c:noMultiLvlLbl val="0"/>
      </c:catAx>
      <c:valAx>
        <c:axId val="619820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0995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8" spc="-1" strike="noStrike">
                <a:solidFill>
                  <a:srgbClr val="000000"/>
                </a:solidFill>
                <a:latin typeface="Arial"/>
              </a:defRPr>
            </a:pPr>
            <a:r>
              <a:rPr b="1" sz="1498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024976667704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57335229545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2</c:v>
                </c:pt>
                <c:pt idx="1">
                  <c:v>10</c:v>
                </c:pt>
                <c:pt idx="2">
                  <c:v>5</c:v>
                </c:pt>
                <c:pt idx="3">
                  <c:v>6</c:v>
                </c:pt>
                <c:pt idx="4">
                  <c:v>6</c:v>
                </c:pt>
                <c:pt idx="5">
                  <c:v>9</c:v>
                </c:pt>
                <c:pt idx="6">
                  <c:v>4</c:v>
                </c:pt>
                <c:pt idx="7">
                  <c:v>7</c:v>
                </c:pt>
                <c:pt idx="8">
                  <c:v>2</c:v>
                </c:pt>
                <c:pt idx="9">
                  <c:v>3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90243902439024</c:v>
                </c:pt>
                <c:pt idx="1">
                  <c:v>4.82926829268293</c:v>
                </c:pt>
                <c:pt idx="2">
                  <c:v>13.4146341463415</c:v>
                </c:pt>
                <c:pt idx="3">
                  <c:v>12.3414634146341</c:v>
                </c:pt>
                <c:pt idx="4">
                  <c:v>6.4390243902439</c:v>
                </c:pt>
                <c:pt idx="5">
                  <c:v>6.4390243902439</c:v>
                </c:pt>
                <c:pt idx="6">
                  <c:v>3.21951219512195</c:v>
                </c:pt>
                <c:pt idx="7">
                  <c:v>5.36585365853658</c:v>
                </c:pt>
                <c:pt idx="8">
                  <c:v>1.07317073170732</c:v>
                </c:pt>
                <c:pt idx="9">
                  <c:v>1.34146341463415</c:v>
                </c:pt>
                <c:pt idx="10">
                  <c:v>1.34146341463415</c:v>
                </c:pt>
                <c:pt idx="11">
                  <c:v>1.07317073170732</c:v>
                </c:pt>
                <c:pt idx="12">
                  <c:v>0.536585365853659</c:v>
                </c:pt>
                <c:pt idx="13">
                  <c:v>0.536585365853659</c:v>
                </c:pt>
                <c:pt idx="14">
                  <c:v>1.07317073170732</c:v>
                </c:pt>
                <c:pt idx="15">
                  <c:v>1.07317073170732</c:v>
                </c:pt>
              </c:numCache>
            </c:numRef>
          </c:val>
        </c:ser>
        <c:gapWidth val="100"/>
        <c:overlap val="0"/>
        <c:axId val="95009346"/>
        <c:axId val="23367731"/>
      </c:barChart>
      <c:catAx>
        <c:axId val="9500934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67731"/>
        <c:crossesAt val="0"/>
        <c:auto val="1"/>
        <c:lblAlgn val="ctr"/>
        <c:lblOffset val="100"/>
        <c:noMultiLvlLbl val="0"/>
      </c:catAx>
      <c:valAx>
        <c:axId val="233677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0934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0" spc="-1" strike="noStrike">
                <a:solidFill>
                  <a:srgbClr val="000000"/>
                </a:solidFill>
                <a:latin typeface="Arial"/>
              </a:defRPr>
            </a:pPr>
            <a:r>
              <a:rPr b="1" sz="1500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153928001419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0345805994"/>
          <c:y val="0.209223847019123"/>
          <c:w val="0.959966306082639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8</c:v>
                </c:pt>
                <c:pt idx="2">
                  <c:v>8</c:v>
                </c:pt>
                <c:pt idx="3">
                  <c:v>2</c:v>
                </c:pt>
                <c:pt idx="4">
                  <c:v>6</c:v>
                </c:pt>
                <c:pt idx="5">
                  <c:v>3</c:v>
                </c:pt>
                <c:pt idx="6">
                  <c:v>1</c:v>
                </c:pt>
                <c:pt idx="7">
                  <c:v>4</c:v>
                </c:pt>
                <c:pt idx="8">
                  <c:v>0</c:v>
                </c:pt>
                <c:pt idx="9">
                  <c:v>2</c:v>
                </c:pt>
                <c:pt idx="10">
                  <c:v>0</c:v>
                </c:pt>
                <c:pt idx="11">
                  <c:v>0</c:v>
                </c:pt>
                <c:pt idx="12">
                  <c:v>3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84552845528455</c:v>
                </c:pt>
                <c:pt idx="1">
                  <c:v>3.14634146341463</c:v>
                </c:pt>
                <c:pt idx="2">
                  <c:v>8.73983739837398</c:v>
                </c:pt>
                <c:pt idx="3">
                  <c:v>8.04065040650407</c:v>
                </c:pt>
                <c:pt idx="4">
                  <c:v>4.19512195121951</c:v>
                </c:pt>
                <c:pt idx="5">
                  <c:v>4.19512195121951</c:v>
                </c:pt>
                <c:pt idx="6">
                  <c:v>2.09756097560976</c:v>
                </c:pt>
                <c:pt idx="7">
                  <c:v>3.49593495934959</c:v>
                </c:pt>
                <c:pt idx="8">
                  <c:v>0.699186991869919</c:v>
                </c:pt>
                <c:pt idx="9">
                  <c:v>0.873983739837398</c:v>
                </c:pt>
                <c:pt idx="10">
                  <c:v>0.873983739837398</c:v>
                </c:pt>
                <c:pt idx="11">
                  <c:v>0.699186991869919</c:v>
                </c:pt>
                <c:pt idx="12">
                  <c:v>0.349593495934959</c:v>
                </c:pt>
                <c:pt idx="13">
                  <c:v>0.349593495934959</c:v>
                </c:pt>
                <c:pt idx="14">
                  <c:v>0.699186991869919</c:v>
                </c:pt>
                <c:pt idx="15">
                  <c:v>0.699186991869919</c:v>
                </c:pt>
              </c:numCache>
            </c:numRef>
          </c:val>
        </c:ser>
        <c:gapWidth val="100"/>
        <c:overlap val="0"/>
        <c:axId val="39865472"/>
        <c:axId val="140707"/>
      </c:barChart>
      <c:catAx>
        <c:axId val="3986547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707"/>
        <c:crossesAt val="0"/>
        <c:auto val="1"/>
        <c:lblAlgn val="ctr"/>
        <c:lblOffset val="100"/>
        <c:noMultiLvlLbl val="0"/>
      </c:catAx>
      <c:valAx>
        <c:axId val="1407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6547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911" spc="-1" strike="noStrike">
                <a:solidFill>
                  <a:srgbClr val="000000"/>
                </a:solidFill>
                <a:latin typeface="Arial"/>
              </a:defRPr>
            </a:pPr>
            <a:r>
              <a:rPr b="0" sz="911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5580196435714"/>
          <c:y val="0.0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22875"/>
          <c:w val="0.959957335229545"/>
          <c:h val="0.85612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3</c:v>
                </c:pt>
                <c:pt idx="2">
                  <c:v>16</c:v>
                </c:pt>
                <c:pt idx="3">
                  <c:v>4</c:v>
                </c:pt>
                <c:pt idx="4">
                  <c:v>1</c:v>
                </c:pt>
                <c:pt idx="5">
                  <c:v>7</c:v>
                </c:pt>
                <c:pt idx="6">
                  <c:v>0</c:v>
                </c:pt>
                <c:pt idx="7">
                  <c:v>7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2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7.35820895522388</c:v>
                </c:pt>
                <c:pt idx="1">
                  <c:v>5.58208955223881</c:v>
                </c:pt>
                <c:pt idx="2">
                  <c:v>15.7313432835821</c:v>
                </c:pt>
                <c:pt idx="3">
                  <c:v>14.7164179104478</c:v>
                </c:pt>
                <c:pt idx="4">
                  <c:v>6.59701492537313</c:v>
                </c:pt>
                <c:pt idx="5">
                  <c:v>6.59701492537313</c:v>
                </c:pt>
                <c:pt idx="6">
                  <c:v>2.02985074626866</c:v>
                </c:pt>
                <c:pt idx="7">
                  <c:v>6.5970149253731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01492537313433</c:v>
                </c:pt>
                <c:pt idx="15">
                  <c:v>1.77611940298507</c:v>
                </c:pt>
              </c:numCache>
            </c:numRef>
          </c:val>
        </c:ser>
        <c:gapWidth val="100"/>
        <c:overlap val="0"/>
        <c:axId val="57017927"/>
        <c:axId val="16188615"/>
      </c:barChart>
      <c:catAx>
        <c:axId val="5701792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88615"/>
        <c:crossesAt val="0"/>
        <c:auto val="1"/>
        <c:lblAlgn val="ctr"/>
        <c:lblOffset val="100"/>
        <c:noMultiLvlLbl val="0"/>
      </c:catAx>
      <c:valAx>
        <c:axId val="161886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1792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0" spc="-1" strike="noStrike">
                <a:solidFill>
                  <a:srgbClr val="000000"/>
                </a:solidFill>
                <a:latin typeface="Arial"/>
              </a:defRPr>
            </a:pPr>
            <a:r>
              <a:rPr b="1" sz="1500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24324444247238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27936282558"/>
          <c:y val="0.209223847019123"/>
          <c:w val="0.959976926831433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1</c:v>
                </c:pt>
                <c:pt idx="1">
                  <c:v>8</c:v>
                </c:pt>
                <c:pt idx="2">
                  <c:v>13</c:v>
                </c:pt>
                <c:pt idx="3">
                  <c:v>6</c:v>
                </c:pt>
                <c:pt idx="4">
                  <c:v>5</c:v>
                </c:pt>
                <c:pt idx="5">
                  <c:v>5</c:v>
                </c:pt>
                <c:pt idx="6">
                  <c:v>4</c:v>
                </c:pt>
                <c:pt idx="7">
                  <c:v>5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7.14179104477612</c:v>
                </c:pt>
                <c:pt idx="1">
                  <c:v>5.41791044776119</c:v>
                </c:pt>
                <c:pt idx="2">
                  <c:v>15.2686567164179</c:v>
                </c:pt>
                <c:pt idx="3">
                  <c:v>14.2835820895522</c:v>
                </c:pt>
                <c:pt idx="4">
                  <c:v>6.40298507462687</c:v>
                </c:pt>
                <c:pt idx="5">
                  <c:v>6.40298507462687</c:v>
                </c:pt>
                <c:pt idx="6">
                  <c:v>1.97014925373134</c:v>
                </c:pt>
                <c:pt idx="7">
                  <c:v>6.40298507462687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.985074626865672</c:v>
                </c:pt>
                <c:pt idx="15">
                  <c:v>1.72388059701493</c:v>
                </c:pt>
              </c:numCache>
            </c:numRef>
          </c:val>
        </c:ser>
        <c:gapWidth val="100"/>
        <c:overlap val="0"/>
        <c:axId val="53838050"/>
        <c:axId val="78991870"/>
      </c:barChart>
      <c:catAx>
        <c:axId val="5383805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91870"/>
        <c:crossesAt val="0"/>
        <c:auto val="1"/>
        <c:lblAlgn val="ctr"/>
        <c:lblOffset val="100"/>
        <c:noMultiLvlLbl val="0"/>
      </c:catAx>
      <c:valAx>
        <c:axId val="789918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3805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6" spc="-1" strike="noStrike">
                <a:solidFill>
                  <a:srgbClr val="000000"/>
                </a:solidFill>
                <a:latin typeface="Arial"/>
              </a:defRPr>
            </a:pPr>
            <a:r>
              <a:rPr b="1" sz="1496" spc="-1" strike="noStrike">
                <a:solidFill>
                  <a:srgbClr val="000000"/>
                </a:solidFill>
                <a:latin typeface="Arial"/>
              </a:rPr>
              <a:t>EEAJT  MAIO VESPERTINO</a:t>
            </a:r>
          </a:p>
        </c:rich>
      </c:tx>
      <c:layout>
        <c:manualLayout>
          <c:xMode val="edge"/>
          <c:yMode val="edge"/>
          <c:x val="0.424381138616062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57335229545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4</c:v>
                </c:pt>
                <c:pt idx="1">
                  <c:v>0</c:v>
                </c:pt>
                <c:pt idx="2">
                  <c:v>10</c:v>
                </c:pt>
                <c:pt idx="3">
                  <c:v>6</c:v>
                </c:pt>
                <c:pt idx="4">
                  <c:v>4</c:v>
                </c:pt>
                <c:pt idx="5">
                  <c:v>4</c:v>
                </c:pt>
                <c:pt idx="6">
                  <c:v>0</c:v>
                </c:pt>
                <c:pt idx="7">
                  <c:v>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22014925373134</c:v>
                </c:pt>
                <c:pt idx="1">
                  <c:v>3.20149253731343</c:v>
                </c:pt>
                <c:pt idx="2">
                  <c:v>9.02238805970149</c:v>
                </c:pt>
                <c:pt idx="3">
                  <c:v>8.44029850746269</c:v>
                </c:pt>
                <c:pt idx="4">
                  <c:v>3.78358208955224</c:v>
                </c:pt>
                <c:pt idx="5">
                  <c:v>3.78358208955224</c:v>
                </c:pt>
                <c:pt idx="6">
                  <c:v>1.16417910447761</c:v>
                </c:pt>
                <c:pt idx="7">
                  <c:v>3.78358208955224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.582089552238806</c:v>
                </c:pt>
                <c:pt idx="15">
                  <c:v>1.01865671641791</c:v>
                </c:pt>
              </c:numCache>
            </c:numRef>
          </c:val>
        </c:ser>
        <c:gapWidth val="100"/>
        <c:overlap val="0"/>
        <c:axId val="31184813"/>
        <c:axId val="14567804"/>
      </c:barChart>
      <c:catAx>
        <c:axId val="3118481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67804"/>
        <c:crossesAt val="0"/>
        <c:auto val="1"/>
        <c:lblAlgn val="ctr"/>
        <c:lblOffset val="100"/>
        <c:noMultiLvlLbl val="0"/>
      </c:catAx>
      <c:valAx>
        <c:axId val="145678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8481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03" spc="-1" strike="noStrike">
                <a:solidFill>
                  <a:srgbClr val="000000"/>
                </a:solidFill>
                <a:latin typeface="Arial"/>
              </a:defRPr>
            </a:pPr>
            <a:r>
              <a:rPr b="1" sz="1403" spc="-1" strike="noStrike">
                <a:solidFill>
                  <a:srgbClr val="000000"/>
                </a:solidFill>
                <a:latin typeface="Arial"/>
              </a:rPr>
              <a:t>EEAJT MARÇO NOTURNO</a:t>
            </a:r>
          </a:p>
        </c:rich>
      </c:tx>
      <c:layout>
        <c:manualLayout>
          <c:xMode val="edge"/>
          <c:yMode val="edge"/>
          <c:x val="0.306341940358206"/>
          <c:y val="0.0201224846894138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22984626921635"/>
          <c:w val="0.959957335229545"/>
          <c:h val="0.8563929508811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1</c:v>
                </c:pt>
                <c:pt idx="2">
                  <c:v>10</c:v>
                </c:pt>
                <c:pt idx="3">
                  <c:v>6</c:v>
                </c:pt>
                <c:pt idx="4">
                  <c:v>3</c:v>
                </c:pt>
                <c:pt idx="5">
                  <c:v>1</c:v>
                </c:pt>
                <c:pt idx="6">
                  <c:v>3</c:v>
                </c:pt>
                <c:pt idx="7">
                  <c:v>6</c:v>
                </c:pt>
                <c:pt idx="8">
                  <c:v>2</c:v>
                </c:pt>
                <c:pt idx="9">
                  <c:v>5</c:v>
                </c:pt>
                <c:pt idx="10">
                  <c:v>5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55263157894737</c:v>
                </c:pt>
                <c:pt idx="1">
                  <c:v>3.55263157894737</c:v>
                </c:pt>
                <c:pt idx="2">
                  <c:v>14.9210526315789</c:v>
                </c:pt>
                <c:pt idx="3">
                  <c:v>12.7894736842105</c:v>
                </c:pt>
                <c:pt idx="4">
                  <c:v>9.23684210526316</c:v>
                </c:pt>
                <c:pt idx="5">
                  <c:v>9.23684210526316</c:v>
                </c:pt>
                <c:pt idx="6">
                  <c:v>9.23684210526316</c:v>
                </c:pt>
                <c:pt idx="7">
                  <c:v>6.39473684210526</c:v>
                </c:pt>
                <c:pt idx="8">
                  <c:v>2.84210526315789</c:v>
                </c:pt>
                <c:pt idx="9">
                  <c:v>3.19736842105263</c:v>
                </c:pt>
                <c:pt idx="10">
                  <c:v>3.19736842105263</c:v>
                </c:pt>
                <c:pt idx="11">
                  <c:v>1.42105263157895</c:v>
                </c:pt>
                <c:pt idx="12">
                  <c:v>1.06578947368421</c:v>
                </c:pt>
                <c:pt idx="13">
                  <c:v>0.355263157894737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28541475"/>
        <c:axId val="83646291"/>
      </c:barChart>
      <c:catAx>
        <c:axId val="2854147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46291"/>
        <c:crossesAt val="0"/>
        <c:auto val="1"/>
        <c:lblAlgn val="ctr"/>
        <c:lblOffset val="100"/>
        <c:noMultiLvlLbl val="0"/>
      </c:catAx>
      <c:valAx>
        <c:axId val="836462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4147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8" spc="-1" strike="noStrike">
                <a:solidFill>
                  <a:srgbClr val="000000"/>
                </a:solidFill>
                <a:latin typeface="Arial"/>
              </a:defRPr>
            </a:pPr>
            <a:r>
              <a:rPr b="1" sz="1498" spc="-1" strike="noStrike">
                <a:solidFill>
                  <a:srgbClr val="000000"/>
                </a:solidFill>
                <a:latin typeface="Arial"/>
              </a:rPr>
              <a:t>EEAJT ABRIL NOTURNO</a:t>
            </a:r>
          </a:p>
        </c:rich>
      </c:tx>
      <c:layout>
        <c:manualLayout>
          <c:xMode val="edge"/>
          <c:yMode val="edge"/>
          <c:x val="0.440958179636461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57335229545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2</c:v>
                </c:pt>
                <c:pt idx="2">
                  <c:v>5</c:v>
                </c:pt>
                <c:pt idx="3">
                  <c:v>9</c:v>
                </c:pt>
                <c:pt idx="4">
                  <c:v>6</c:v>
                </c:pt>
                <c:pt idx="5">
                  <c:v>9</c:v>
                </c:pt>
                <c:pt idx="6">
                  <c:v>0</c:v>
                </c:pt>
                <c:pt idx="7">
                  <c:v>9</c:v>
                </c:pt>
                <c:pt idx="8">
                  <c:v>0</c:v>
                </c:pt>
                <c:pt idx="9">
                  <c:v>3</c:v>
                </c:pt>
                <c:pt idx="10">
                  <c:v>3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89473684210526</c:v>
                </c:pt>
                <c:pt idx="1">
                  <c:v>2.89473684210526</c:v>
                </c:pt>
                <c:pt idx="2">
                  <c:v>12.1578947368421</c:v>
                </c:pt>
                <c:pt idx="3">
                  <c:v>10.4210526315789</c:v>
                </c:pt>
                <c:pt idx="4">
                  <c:v>7.52631578947368</c:v>
                </c:pt>
                <c:pt idx="5">
                  <c:v>7.52631578947368</c:v>
                </c:pt>
                <c:pt idx="6">
                  <c:v>7.52631578947368</c:v>
                </c:pt>
                <c:pt idx="7">
                  <c:v>5.21052631578947</c:v>
                </c:pt>
                <c:pt idx="8">
                  <c:v>2.31578947368421</c:v>
                </c:pt>
                <c:pt idx="9">
                  <c:v>2.60526315789474</c:v>
                </c:pt>
                <c:pt idx="10">
                  <c:v>2.60526315789474</c:v>
                </c:pt>
                <c:pt idx="11">
                  <c:v>1.15789473684211</c:v>
                </c:pt>
                <c:pt idx="12">
                  <c:v>0.868421052631579</c:v>
                </c:pt>
                <c:pt idx="13">
                  <c:v>0.289473684210526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83874770"/>
        <c:axId val="4272740"/>
      </c:barChart>
      <c:catAx>
        <c:axId val="8387477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2740"/>
        <c:crossesAt val="0"/>
        <c:auto val="1"/>
        <c:lblAlgn val="ctr"/>
        <c:lblOffset val="100"/>
        <c:noMultiLvlLbl val="0"/>
      </c:catAx>
      <c:valAx>
        <c:axId val="42727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7477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0" spc="-1" strike="noStrike">
                <a:solidFill>
                  <a:srgbClr val="000000"/>
                </a:solidFill>
                <a:latin typeface="Arial"/>
              </a:defRPr>
            </a:pPr>
            <a:r>
              <a:rPr b="1" sz="1500" spc="-1" strike="noStrike">
                <a:solidFill>
                  <a:srgbClr val="000000"/>
                </a:solidFill>
                <a:latin typeface="Arial"/>
              </a:rPr>
              <a:t>EEAJT MAIO NOTURNO</a:t>
            </a:r>
          </a:p>
        </c:rich>
      </c:tx>
      <c:layout>
        <c:manualLayout>
          <c:xMode val="edge"/>
          <c:yMode val="edge"/>
          <c:x val="0.440849253135943"/>
          <c:y val="0.020369907523119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459243827845"/>
          <c:y val="0.209197700574856"/>
          <c:w val="0.959930854128806"/>
          <c:h val="0.77005748562859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4</c:v>
                </c:pt>
                <c:pt idx="4">
                  <c:v>9</c:v>
                </c:pt>
                <c:pt idx="5">
                  <c:v>6</c:v>
                </c:pt>
                <c:pt idx="6">
                  <c:v>0</c:v>
                </c:pt>
                <c:pt idx="7">
                  <c:v>6</c:v>
                </c:pt>
                <c:pt idx="8">
                  <c:v>2</c:v>
                </c:pt>
                <c:pt idx="9">
                  <c:v>4</c:v>
                </c:pt>
                <c:pt idx="10">
                  <c:v>1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8859649122807</c:v>
                </c:pt>
                <c:pt idx="1">
                  <c:v>1.8859649122807</c:v>
                </c:pt>
                <c:pt idx="2">
                  <c:v>7.92105263157895</c:v>
                </c:pt>
                <c:pt idx="3">
                  <c:v>6.78947368421053</c:v>
                </c:pt>
                <c:pt idx="4">
                  <c:v>4.90350877192982</c:v>
                </c:pt>
                <c:pt idx="5">
                  <c:v>4.90350877192982</c:v>
                </c:pt>
                <c:pt idx="6">
                  <c:v>4.90350877192982</c:v>
                </c:pt>
                <c:pt idx="7">
                  <c:v>3.39473684210526</c:v>
                </c:pt>
                <c:pt idx="8">
                  <c:v>1.50877192982456</c:v>
                </c:pt>
                <c:pt idx="9">
                  <c:v>1.69736842105263</c:v>
                </c:pt>
                <c:pt idx="10">
                  <c:v>1.69736842105263</c:v>
                </c:pt>
                <c:pt idx="11">
                  <c:v>0.754385964912281</c:v>
                </c:pt>
                <c:pt idx="12">
                  <c:v>0.56578947368421</c:v>
                </c:pt>
                <c:pt idx="13">
                  <c:v>0.18859649122807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34274863"/>
        <c:axId val="57331028"/>
      </c:barChart>
      <c:catAx>
        <c:axId val="3427486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31028"/>
        <c:crossesAt val="0"/>
        <c:auto val="1"/>
        <c:lblAlgn val="ctr"/>
        <c:lblOffset val="100"/>
        <c:noMultiLvlLbl val="0"/>
      </c:catAx>
      <c:valAx>
        <c:axId val="573310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7486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78F2-E044-438C-80FF-98D262EA75C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591D-0B80-4DAB-B7CF-9CE3C0FCD8F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AA84-5CA1-419D-9ECB-04F38A102ED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0DED-9516-4817-9F9C-03D59481AF2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CAA5-6BF2-4EEC-A280-042AF581269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0312-9FAA-4581-9597-649ACC9526D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B75E-6418-4E02-9382-3E4969C44E4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0EEA-EB2B-42B0-90C2-30B4A56AE93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C824-27D4-472E-82AF-B2956941894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71B4-654D-4CF6-BC6C-46F08CF7DC4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F62B-C2BD-4586-A190-71404F35280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DFC7-9705-4876-BC23-5D6F1093AFE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B0AB-5B34-4026-B24E-AE01A820C29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2F49-9794-4B24-9EA7-C15B23CB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4EBC-27E9-417E-99A7-EFC8B9DF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6E2E-4000-4D9B-A17B-3AF39FDA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6853-4B00-4CA2-B178-376326A6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5EE1-C04E-40B2-BAAB-58DDF5B6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C033-CB3F-44E3-A06F-78EA4E3F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1DD1-2DFB-4898-BBAB-2DA940BC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936B-2D93-4064-8767-2C56233E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6AE8-C2FF-455C-93CD-AC66AD45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E7D3-08AF-4965-8A5A-5C284C68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3E3C-D5DD-4173-A5FB-D3A9C4FD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21FD-37E5-4F34-A65F-627BA0A8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4499-AC50-4586-9318-3EB17565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2DCA-397F-4366-A2A7-1782813C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0620-B32D-4359-B3D7-DC8C50F8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076F-B971-4AF0-AC92-51B976D7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7DB2-4B46-4CB5-AD61-EA6F9F03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68FA7-43EE-4FFC-93DF-8A7E959A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12DE1C-BE26-4F1C-B125-18487544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E62BED-439C-4199-BD7D-F190ABCD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FBC6BF-B706-48F0-8B88-4AA9DDAC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18878C-FB50-4CEA-AF93-1C45CAC3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6BD6-47FD-413B-BD23-4BF2F528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85775-0D74-4BA4-AA5A-6A04DE39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1E9E07-A9AC-4C63-80D5-05740F55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66F58-3A16-464B-8B45-C0876E44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20AE68-7ABB-4C73-A0EE-3977499A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783D7B-EE58-4201-968B-46A082EE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4664D2-2FF0-491C-BA82-6E1F9F59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1DC33-4972-49E1-B60A-DB732677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C3C985-86D2-4F41-8412-0812AE8E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88DD43-5055-42AD-AFEB-2D68302F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7811AC-2550-4265-A2D2-646D5E39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A618-06FB-47EC-9EBC-0EECEEE6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49EA12-83DF-495F-B64D-E6F30852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438A98-52AE-45C2-B3E1-58928807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EA44F4-16A6-48B0-8603-7855AFEC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A4F6C4-5CC1-4F7B-AFF0-9FD46F15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6858C6-426C-4541-AD20-902B77F5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990DE8-C426-4F8E-A6FB-4D11A3FC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7EC5E1-6441-4895-9D18-3802A777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0DFB0F-CE22-40F2-867F-F7E60378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388A6A-523A-456F-AC9A-BF902E6D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CCBC11-C20B-446D-BA6E-9CCE68C2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5E82-97C3-4CC2-AFD5-AF3FF231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1BA5D-825E-4CB7-BB53-838D8D7E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3F0BA6-4FEB-4C4C-95C0-54875C66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E5E6B8-808F-4CCC-A5DC-4B5CDCCB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B1C7BB-126B-44C7-8415-8C9D4581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FB3487-0C1C-4A35-BD81-479025AE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32D8D8-7F80-454E-92CA-F8B95D29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A33B91-236C-473A-95D9-22446503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06CF10-096E-4364-8F1D-718C9657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D72749-5C9B-4A4B-8C65-E207F1D2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4AAE20-8188-4004-A868-57341F16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47D8-7365-4CD8-9098-53A3497C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015C22-D61C-4757-BB86-978278CC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12E8C-1883-4ACF-93E2-CC17D6AC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B5A16-6442-4366-8352-75854CE6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47018-28E8-4A95-8253-ED92355B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A1017-7D79-488D-B262-E153B4FB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B1D50-197C-49F6-ADCC-C251A3B1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0D0B2-8999-4A73-9936-C5210000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5E58F-377F-4CC8-8F30-C0BF4152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7A35C-E9BB-4764-ACBF-4525D70B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B5E1A-CE85-43D4-A18A-7BAB023B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4218-1C4E-4BB2-95D0-1BFCCB91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580D0-FBE7-4683-B5B0-5B0C2994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20F50-8728-4210-BD30-92A464A4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24187-13B2-40FA-9B5B-92EA2638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AC6C97-068C-4538-A22B-28CFCBE5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160BAC-1DE4-4349-B29D-C7D1EBD0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FE6AFD-BF49-46DF-A8C1-91EBC02B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3F68C1-4F07-440C-B159-2828EAC8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5A618B-D41F-4E9B-9070-A373126C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894FC5-EA11-44E8-BB78-21F8D54A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CB947A-82A2-4273-8CC0-C21039BF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00EE-45AE-4FD4-A193-BC65FB49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6A999D-67D5-4732-B35C-6278D529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330398-8A54-4AD9-8014-ADB62699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38F842-2984-4219-A5C6-C89C7368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E58251-23D6-4247-A30D-75682B86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F87174-C740-422F-A661-FCA0323F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117B9-E5D8-4A6C-9554-F5F8AC7D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20B1D-3DFA-42D7-AECA-6E1F3B7F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0317E-01B0-4D24-BBCE-03CEA1E5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BE5CB-EF41-4662-9E20-E5A93C02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E5B1D-056B-4653-9721-4D5B7708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8ADA-9C3C-4958-8B94-5637845E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C00F5-6E1D-4902-9751-C172C975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BBC23-5FCA-440A-8720-A111EFB2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DDEE6-30EC-4F73-89C3-0B98929C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8C71F-2496-4E02-8581-E9A043DF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01968-F0BE-4F47-8F56-AEAE6BD9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3CC39-B48F-4100-9B8F-18C92F44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D4CDF-CBD2-4B9F-9871-EF0BB2CF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tâ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tâ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1D9F-EC81-414F-BF25-2EACE0008050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tângulo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tângulo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4C62-544F-4DF4-8AAF-9543B648BBC4}" type="slidenum"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tângulo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tângulo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7522-E072-4B37-B914-43CFA03BA6D8}" type="slidenum"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â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tâ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D19F-50BB-4E0D-925D-2C567F3E283E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tâ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tâ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6A82-F9A8-40A4-93A3-36A5E40E11F0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E760-082C-4F82-9F01-2E9FE502FE2C}" type="slidenum"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tângulo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tângulo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tângulo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tângulo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5E49-467A-4B7F-8967-EAFB3118F441}" type="slidenum"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tângulo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tângulo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tângulo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430B-23BA-46BB-B169-F3122AFEC75F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chart" Target="../charts/chart9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8760" y="1999800"/>
            <a:ext cx="8410320" cy="17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775f55"/>
                </a:solidFill>
                <a:latin typeface="Tw Cen MT"/>
              </a:rPr>
              <a:t>E. E. ANGELINA JAIME TEBET</a:t>
            </a:r>
            <a:endParaRPr b="0" lang="en-US" sz="4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w Cen MT"/>
              </a:rPr>
              <a:t>NTE – NOVA ANDRADIN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Espaço Reservado para Rodapé 3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39640" y="1571400"/>
            <a:ext cx="361656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Curso LINUX (N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ATAC II – Ambientes Tecnológicos de Aprendizagem Colaborativa e Proinfo integrado (N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4788000" y="1500120"/>
            <a:ext cx="361764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 executado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concluído em Nova Andradin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1643040"/>
            <a:ext cx="91440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000099"/>
                </a:solidFill>
                <a:latin typeface="Tw Cen MT"/>
              </a:rPr>
              <a:t>PELA STE</a:t>
            </a:r>
            <a:endParaRPr b="0" lang="en-US" sz="6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10920" y="1642680"/>
            <a:ext cx="36162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Tw Cen MT"/>
              </a:rPr>
              <a:t>Elaboração e apresentação do Plano de Ação 2009;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Tw Cen MT"/>
              </a:rPr>
              <a:t>Preenchimento do relatório do PNUD Brasil Ponto a Ponto pelos alunos;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Tw Cen MT"/>
              </a:rPr>
              <a:t>Acompanhamento das atividades desenvolvidas pelos professores regentes;</a:t>
            </a:r>
            <a:r>
              <a:rPr b="1" lang="pt-BR" sz="22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4859280" y="1571760"/>
            <a:ext cx="3618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20/03 a 15/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 executada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09/03 a 16/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 executada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03/03 a 10/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 em andamento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539640" y="1642680"/>
            <a:ext cx="361656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Tw Cen MT"/>
              </a:rPr>
              <a:t>Pesquisa com professores regentes sobre os cursos que poderão ser ofertados pelos professores da STE;</a:t>
            </a:r>
            <a:r>
              <a:rPr b="1" lang="pt-BR" sz="22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w Cen MT"/>
              </a:rPr>
              <a:t>Organização e alimentação página WIKI da escol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w Cen MT"/>
              </a:rPr>
              <a:t>Curso Básico de informática e Tecnologias  para docente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0" name="Rectangle 5" descr=""/>
          <p:cNvPicPr/>
          <p:nvPr/>
        </p:nvPicPr>
        <p:blipFill>
          <a:blip r:embed="rId1"/>
          <a:stretch/>
        </p:blipFill>
        <p:spPr>
          <a:xfrm>
            <a:off x="4552920" y="1487520"/>
            <a:ext cx="4597560" cy="4254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39640" y="1714680"/>
            <a:ext cx="361656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Curso Básico de informática e Tecnologias  para discentes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Auxilio na elaboração de projetos individua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TV Escola - analise e divulgação junto a docentes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5003640" y="1643040"/>
            <a:ext cx="361656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 ?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bril a dezembr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em andament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bril a dezembr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em andament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0099"/>
                </a:solidFill>
                <a:latin typeface="Tw Cen MT"/>
              </a:rPr>
              <a:t>ESTATÍSTICA</a:t>
            </a:r>
            <a:endParaRPr b="0" lang="en-US" sz="7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0" y="475920"/>
            <a:ext cx="91440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w Cen MT"/>
              </a:rPr>
              <a:t>MATUTIN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w Cen MT"/>
              </a:rPr>
              <a:t>MARÇO – ABRIL– MAI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w Cen MT"/>
              </a:rPr>
              <a:t>ADRIANA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>
              <a:spcBef>
                <a:spcPts val="9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6421320" y="142920"/>
            <a:ext cx="272268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RÇ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Object 4"/>
          <p:cNvGraphicFramePr/>
          <p:nvPr/>
        </p:nvGraphicFramePr>
        <p:xfrm>
          <a:off x="0" y="1214280"/>
          <a:ext cx="9144000" cy="3251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22" name="Object 5"/>
          <p:cNvGraphicFramePr/>
          <p:nvPr/>
        </p:nvGraphicFramePr>
        <p:xfrm>
          <a:off x="2411280" y="4508640"/>
          <a:ext cx="4319640" cy="1643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2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4508640"/>
                    <a:ext cx="431964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ABRI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5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Object 4"/>
          <p:cNvGraphicFramePr/>
          <p:nvPr/>
        </p:nvGraphicFramePr>
        <p:xfrm>
          <a:off x="0" y="1285920"/>
          <a:ext cx="9144000" cy="3251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27" name="Object 5"/>
          <p:cNvGraphicFramePr/>
          <p:nvPr/>
        </p:nvGraphicFramePr>
        <p:xfrm>
          <a:off x="2484360" y="4581360"/>
          <a:ext cx="4319640" cy="1643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2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4581360"/>
                    <a:ext cx="4319640" cy="16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I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Object 4"/>
          <p:cNvGraphicFramePr/>
          <p:nvPr/>
        </p:nvGraphicFramePr>
        <p:xfrm>
          <a:off x="0" y="1143000"/>
          <a:ext cx="9144000" cy="3241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32" name="Object 5"/>
          <p:cNvGraphicFramePr/>
          <p:nvPr/>
        </p:nvGraphicFramePr>
        <p:xfrm>
          <a:off x="2484360" y="4508640"/>
          <a:ext cx="4464000" cy="1698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3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4508640"/>
                    <a:ext cx="4464000" cy="16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99"/>
                </a:solidFill>
                <a:latin typeface="Tw Cen MT"/>
              </a:rPr>
              <a:t>GRUPO COMO UNO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Espaço Reservado para Rodapé 5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48"/>
          <p:cNvGrpSpPr/>
          <p:nvPr/>
        </p:nvGrpSpPr>
        <p:grpSpPr>
          <a:xfrm>
            <a:off x="1285920" y="1643040"/>
            <a:ext cx="6337080" cy="4651920"/>
            <a:chOff x="1285920" y="1643040"/>
            <a:chExt cx="6337080" cy="4651920"/>
          </a:xfrm>
        </p:grpSpPr>
        <p:grpSp>
          <p:nvGrpSpPr>
            <p:cNvPr id="363" name="Group 33"/>
            <p:cNvGrpSpPr/>
            <p:nvPr/>
          </p:nvGrpSpPr>
          <p:grpSpPr>
            <a:xfrm>
              <a:off x="2222280" y="5530680"/>
              <a:ext cx="5400720" cy="764280"/>
              <a:chOff x="2222280" y="5530680"/>
              <a:chExt cx="5400720" cy="764280"/>
            </a:xfrm>
          </p:grpSpPr>
          <p:sp>
            <p:nvSpPr>
              <p:cNvPr id="364" name="Text Box 14"/>
              <p:cNvSpPr/>
              <p:nvPr/>
            </p:nvSpPr>
            <p:spPr>
              <a:xfrm>
                <a:off x="2222280" y="5530680"/>
                <a:ext cx="1008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4400" spc="-1" strike="noStrike">
                    <a:solidFill>
                      <a:srgbClr val="000000"/>
                    </a:solidFill>
                    <a:latin typeface="Arial"/>
                  </a:rPr>
                  <a:t>72</a:t>
                </a:r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18"/>
              <p:cNvSpPr/>
              <p:nvPr/>
            </p:nvSpPr>
            <p:spPr>
              <a:xfrm>
                <a:off x="3014280" y="5964120"/>
                <a:ext cx="64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19"/>
              <p:cNvSpPr/>
              <p:nvPr/>
            </p:nvSpPr>
            <p:spPr>
              <a:xfrm>
                <a:off x="3662280" y="5530680"/>
                <a:ext cx="165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4000" spc="-1" strike="noStrike">
                    <a:solidFill>
                      <a:srgbClr val="ebddc3"/>
                    </a:solidFill>
                    <a:latin typeface="Arial"/>
                  </a:rPr>
                  <a:t>500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Line 21"/>
              <p:cNvSpPr/>
              <p:nvPr/>
            </p:nvSpPr>
            <p:spPr>
              <a:xfrm>
                <a:off x="5101920" y="596412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Text Box 22"/>
              <p:cNvSpPr/>
              <p:nvPr/>
            </p:nvSpPr>
            <p:spPr>
              <a:xfrm>
                <a:off x="5678280" y="5530680"/>
                <a:ext cx="1944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4000" spc="-1" strike="noStrike">
                    <a:solidFill>
                      <a:srgbClr val="000000"/>
                    </a:solidFill>
                    <a:latin typeface="Arial"/>
                  </a:rPr>
                  <a:t>22.000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36"/>
            <p:cNvGrpSpPr/>
            <p:nvPr/>
          </p:nvGrpSpPr>
          <p:grpSpPr>
            <a:xfrm>
              <a:off x="1285920" y="1643040"/>
              <a:ext cx="6049800" cy="3671280"/>
              <a:chOff x="1285920" y="1643040"/>
              <a:chExt cx="6049800" cy="3671280"/>
            </a:xfrm>
          </p:grpSpPr>
          <p:sp>
            <p:nvSpPr>
              <p:cNvPr id="370" name="AutoShape 37"/>
              <p:cNvSpPr/>
              <p:nvPr/>
            </p:nvSpPr>
            <p:spPr>
              <a:xfrm flipV="1">
                <a:off x="2798640" y="1642680"/>
                <a:ext cx="3851640" cy="1495440"/>
              </a:xfrm>
              <a:custGeom>
                <a:avLst/>
                <a:gdLst>
                  <a:gd name="textAreaLeft" fmla="*/ 673920 w 3851640"/>
                  <a:gd name="textAreaRight" fmla="*/ 2792520 w 3851640"/>
                  <a:gd name="textAreaTop" fmla="*/ 200160 h 1495440"/>
                  <a:gd name="textAreaBottom" fmla="*/ 1295280 h 1495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AutoShape 38"/>
              <p:cNvSpPr/>
              <p:nvPr/>
            </p:nvSpPr>
            <p:spPr>
              <a:xfrm>
                <a:off x="2868480" y="3818880"/>
                <a:ext cx="3710520" cy="1495440"/>
              </a:xfrm>
              <a:custGeom>
                <a:avLst/>
                <a:gdLst>
                  <a:gd name="textAreaLeft" fmla="*/ 649080 w 3710520"/>
                  <a:gd name="textAreaRight" fmla="*/ 2690280 w 3710520"/>
                  <a:gd name="textAreaTop" fmla="*/ 200160 h 1495440"/>
                  <a:gd name="textAreaBottom" fmla="*/ 1295280 h 1495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59" hR="21600" stAng="10800000" swAng="-5400000"/>
                    <a:lnTo>
                      <a:pt x="11881" y="21600"/>
                    </a:lnTo>
                    <a:arcTo wR="7559" hR="21600" stAng="5400000" swAng="-2682296"/>
                    <a:lnTo>
                      <a:pt x="21168" y="7200"/>
                    </a:lnTo>
                    <a:lnTo>
                      <a:pt x="17278" y="0"/>
                    </a:lnTo>
                    <a:lnTo>
                      <a:pt x="12524" y="7200"/>
                    </a:lnTo>
                    <a:lnTo>
                      <a:pt x="14685" y="7200"/>
                    </a:lnTo>
                    <a:arcTo wR="7559" hR="21600" stAng="2717704" swAng="2324676"/>
                    <a:lnTo>
                      <a:pt x="9720" y="20698"/>
                    </a:lnTo>
                    <a:arcTo wR="7559" hR="21600" stAng="5757620" swAng="5042380"/>
                    <a:close/>
                  </a:path>
                  <a:path fill="darkenLess" w="21600" h="21600">
                    <a:moveTo>
                      <a:pt x="0" y="0"/>
                    </a:moveTo>
                    <a:arcTo wR="7559" hR="21600" stAng="10800000" swAng="-5400000"/>
                    <a:lnTo>
                      <a:pt x="11881" y="21600"/>
                    </a:lnTo>
                    <a:arcTo wR="7559" hR="21600" stAng="5400000" swAng="357620"/>
                    <a:lnTo>
                      <a:pt x="9720" y="20698"/>
                    </a:lnTo>
                    <a:arcTo wR="7559" hR="21600" stAng="5757620" swAng="5042380"/>
                    <a:close/>
                  </a:path>
                </a:pathLst>
              </a:cu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39"/>
              <p:cNvSpPr/>
              <p:nvPr/>
            </p:nvSpPr>
            <p:spPr>
              <a:xfrm>
                <a:off x="1285920" y="3274920"/>
                <a:ext cx="604980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Arial"/>
                  </a:rPr>
                  <a:t>COTEC      NTE        STE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 Box 40"/>
              <p:cNvSpPr/>
              <p:nvPr/>
            </p:nvSpPr>
            <p:spPr>
              <a:xfrm>
                <a:off x="2386080" y="3886200"/>
                <a:ext cx="619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02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41"/>
              <p:cNvSpPr/>
              <p:nvPr/>
            </p:nvSpPr>
            <p:spPr>
              <a:xfrm>
                <a:off x="2662200" y="3682080"/>
                <a:ext cx="0" cy="20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 Box 42"/>
              <p:cNvSpPr/>
              <p:nvPr/>
            </p:nvSpPr>
            <p:spPr>
              <a:xfrm>
                <a:off x="4242960" y="3886200"/>
                <a:ext cx="61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09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43"/>
              <p:cNvSpPr/>
              <p:nvPr/>
            </p:nvSpPr>
            <p:spPr>
              <a:xfrm>
                <a:off x="4449240" y="3682080"/>
                <a:ext cx="0" cy="20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 Box 44"/>
              <p:cNvSpPr/>
              <p:nvPr/>
            </p:nvSpPr>
            <p:spPr>
              <a:xfrm>
                <a:off x="6168600" y="3886200"/>
                <a:ext cx="61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61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45"/>
              <p:cNvSpPr/>
              <p:nvPr/>
            </p:nvSpPr>
            <p:spPr>
              <a:xfrm>
                <a:off x="6236640" y="3615120"/>
                <a:ext cx="13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46"/>
              <p:cNvSpPr/>
              <p:nvPr/>
            </p:nvSpPr>
            <p:spPr>
              <a:xfrm>
                <a:off x="6374520" y="3615120"/>
                <a:ext cx="0" cy="27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0" y="691920"/>
            <a:ext cx="91440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VESPERTIN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MARÇO- ABRIL – MAI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CARLOS</a:t>
            </a:r>
            <a:r>
              <a:rPr b="1" lang="pt-BR" sz="4000" spc="-1" strike="noStrike">
                <a:solidFill>
                  <a:srgbClr val="94b6d2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6" name="Picture 3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2233800" cy="1473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RÇ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8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Object 4"/>
          <p:cNvGraphicFramePr/>
          <p:nvPr/>
        </p:nvGraphicFramePr>
        <p:xfrm>
          <a:off x="0" y="1214280"/>
          <a:ext cx="9144000" cy="3251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40" name="Object 5"/>
          <p:cNvGraphicFramePr/>
          <p:nvPr/>
        </p:nvGraphicFramePr>
        <p:xfrm>
          <a:off x="2411280" y="4581360"/>
          <a:ext cx="4429080" cy="1684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4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4581360"/>
                    <a:ext cx="4429080" cy="16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ABRI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Object 4"/>
          <p:cNvGraphicFramePr/>
          <p:nvPr/>
        </p:nvGraphicFramePr>
        <p:xfrm>
          <a:off x="0" y="1143000"/>
          <a:ext cx="9144000" cy="3244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45" name="Object 5"/>
          <p:cNvGraphicFramePr/>
          <p:nvPr/>
        </p:nvGraphicFramePr>
        <p:xfrm>
          <a:off x="2411280" y="4581360"/>
          <a:ext cx="4392720" cy="1671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4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4581360"/>
                    <a:ext cx="4392720" cy="16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I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Object 4"/>
          <p:cNvGraphicFramePr/>
          <p:nvPr/>
        </p:nvGraphicFramePr>
        <p:xfrm>
          <a:off x="0" y="1143000"/>
          <a:ext cx="9144000" cy="3251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50" name="Object 5"/>
          <p:cNvGraphicFramePr/>
          <p:nvPr/>
        </p:nvGraphicFramePr>
        <p:xfrm>
          <a:off x="2411280" y="4581360"/>
          <a:ext cx="4248360" cy="161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5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4581360"/>
                    <a:ext cx="424836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0" y="214200"/>
            <a:ext cx="914400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NOTURN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MARÇO – ABRIL – MAI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IVAIR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54" name="Picture 4" descr=""/>
          <p:cNvPicPr/>
          <p:nvPr/>
        </p:nvPicPr>
        <p:blipFill>
          <a:blip r:embed="rId1"/>
          <a:stretch/>
        </p:blipFill>
        <p:spPr>
          <a:xfrm>
            <a:off x="7072200" y="35712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RÇ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Object 4"/>
          <p:cNvGraphicFramePr/>
          <p:nvPr/>
        </p:nvGraphicFramePr>
        <p:xfrm>
          <a:off x="0" y="1214280"/>
          <a:ext cx="9144000" cy="3251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58" name="Object 5"/>
          <p:cNvGraphicFramePr/>
          <p:nvPr/>
        </p:nvGraphicFramePr>
        <p:xfrm>
          <a:off x="2340000" y="4508640"/>
          <a:ext cx="4392720" cy="1671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5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4508640"/>
                    <a:ext cx="4392720" cy="16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ABRI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Object 4"/>
          <p:cNvGraphicFramePr/>
          <p:nvPr/>
        </p:nvGraphicFramePr>
        <p:xfrm>
          <a:off x="0" y="1214280"/>
          <a:ext cx="9144000" cy="3251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63" name="Object 5"/>
          <p:cNvGraphicFramePr/>
          <p:nvPr/>
        </p:nvGraphicFramePr>
        <p:xfrm>
          <a:off x="2556000" y="4653000"/>
          <a:ext cx="4176720" cy="1589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6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0" y="4653000"/>
                    <a:ext cx="417672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I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6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Object 4"/>
          <p:cNvGraphicFramePr/>
          <p:nvPr/>
        </p:nvGraphicFramePr>
        <p:xfrm>
          <a:off x="2484360" y="4724280"/>
          <a:ext cx="3960720" cy="150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724280"/>
                    <a:ext cx="396072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Object 5"/>
          <p:cNvGraphicFramePr/>
          <p:nvPr/>
        </p:nvGraphicFramePr>
        <p:xfrm>
          <a:off x="0" y="1214280"/>
          <a:ext cx="9144000" cy="3241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p:transition spd="med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539640" y="333000"/>
            <a:ext cx="822960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99"/>
                </a:solidFill>
                <a:latin typeface="Tw Cen MT"/>
              </a:rPr>
              <a:t>PONTOS PARA REFLETIR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72" name="Picture 4" descr=""/>
          <p:cNvPicPr/>
          <p:nvPr/>
        </p:nvPicPr>
        <p:blipFill>
          <a:blip r:embed="rId1"/>
          <a:stretch/>
        </p:blipFill>
        <p:spPr>
          <a:xfrm>
            <a:off x="3143160" y="1959120"/>
            <a:ext cx="2857680" cy="3671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68360" y="157140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A comunicação entre PNTE e PSTE deve ser constante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s e-mails devem ser lidos por todos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 MSN deve ficar ligado no período em que o Professor da STE estiver na sala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s prazos deverão ser cumpridos, sendo alterado com justificativa prévia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99"/>
                </a:solidFill>
                <a:latin typeface="Tw Cen MT"/>
              </a:rPr>
              <a:t>OBJETIVO</a:t>
            </a:r>
            <a:endParaRPr b="0" lang="en-US" sz="4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68360" y="1571400"/>
            <a:ext cx="822960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Apresentar alguns pontos que devem ser mudados para o bom andamento do trabalho na STE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Apresentar as ações que foram desenvolvidas pelos professores multiplicadores (NTE – STE) no 1º semestre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Apresentar, analisar e refletir a respeito do uso da STE da escola no 1º semestre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Elaborar cronograma de ações dos professores da STE no 2º semestre para formação in loc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Será responsabilizado o profissional que não cumprir com suas atribuições (professor do NTE, STE e professores regentes);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Será construído portfólio online das atividades desenvolvidas pelos alunos na STE;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Todos os planos de aula dos professores deverão ser assinados pelo coordenador do turno;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O professor com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20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horas, disponibilizará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18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aulas para ser usadas com professores e alunos,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4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aulas para planejamento junto aos coordenadores e professores regentes e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2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para pesquisa externa;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O professor com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10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horas disponibilizará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9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aulas para ser usadas com professores e alunos,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2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para planejamento junto à coordenação e professores regentes e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1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para pesquisa externa;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 quadro de planejamento mensal do professor da STE deverá se adequar ao horário de atividades do professor regente, acompanhado pelos coordenadores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 plano de aula do professore regente deve prever no máximo </a:t>
            </a:r>
            <a:r>
              <a:rPr b="1" lang="pt-BR" sz="2900" spc="-1" strike="noStrike">
                <a:solidFill>
                  <a:srgbClr val="704404"/>
                </a:solidFill>
                <a:latin typeface="Tw Cen MT"/>
              </a:rPr>
              <a:t>2</a:t>
            </a: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 aulas, mais que isso é necessário projeto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68360" y="50004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 uso das mídias externas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A função do coordenador pedagógico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A função do diretor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Espaço Reservado para Rodapé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720720" y="2492280"/>
            <a:ext cx="7770960" cy="2288520"/>
          </a:xfrm>
          <a:prstGeom prst="rect">
            <a:avLst/>
          </a:prstGeom>
          <a:solidFill>
            <a:srgbClr val="05b9dd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quipe técnica e a pedagógica das unidades escolares, em especial 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ordenação pedagóg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são as principais parceiras na garantia da efetiva utilização das ST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2320920" y="706320"/>
            <a:ext cx="5340240" cy="746280"/>
          </a:xfrm>
          <a:prstGeom prst="rect">
            <a:avLst/>
          </a:prstGeom>
          <a:solidFill>
            <a:srgbClr val="33cc33"/>
          </a:solidFill>
          <a:ln w="38160">
            <a:solidFill>
              <a:srgbClr val="339933"/>
            </a:solidFill>
            <a:miter/>
          </a:ln>
          <a:effectLst>
            <a:outerShdw dist="17819" dir="2700000" blurRad="0" rotWithShape="0">
              <a:srgbClr val="1f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TE – Sala de Tecnolog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4" descr="professor2"/>
          <p:cNvPicPr/>
          <p:nvPr/>
        </p:nvPicPr>
        <p:blipFill>
          <a:blip r:embed="rId1"/>
          <a:stretch/>
        </p:blipFill>
        <p:spPr>
          <a:xfrm>
            <a:off x="247680" y="347760"/>
            <a:ext cx="2023920" cy="1517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Espaço Reservado para Rodapé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2"/>
          <p:cNvSpPr/>
          <p:nvPr/>
        </p:nvSpPr>
        <p:spPr>
          <a:xfrm>
            <a:off x="1200240" y="1108080"/>
            <a:ext cx="3625920" cy="792000"/>
          </a:xfrm>
          <a:prstGeom prst="rect">
            <a:avLst/>
          </a:prstGeom>
          <a:solidFill>
            <a:srgbClr val="33cc33"/>
          </a:solidFill>
          <a:ln w="38160">
            <a:solidFill>
              <a:srgbClr val="339933"/>
            </a:solidFill>
            <a:miter/>
          </a:ln>
          <a:effectLst>
            <a:outerShdw dist="17819" dir="2700000" blurRad="0" rotWithShape="0">
              <a:srgbClr val="1f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lanejamen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584280" y="2752560"/>
            <a:ext cx="7889760" cy="3020040"/>
          </a:xfrm>
          <a:prstGeom prst="rect">
            <a:avLst/>
          </a:prstGeom>
          <a:solidFill>
            <a:srgbClr val="05b9dd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ofessor de tecnologias deverá ficar atento quanto ao planejamento do professor regente que deverá ser entregue com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antecedência e com a ciência da coordenação pedagóg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a que sejam disponibilizados os recursos necessários na STE e para que possam verificar as atividades a serem executadas pelos alunos e disponibilizá-las de acordo com o horário de aulas planejada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4" descr="planejamento_"/>
          <p:cNvPicPr/>
          <p:nvPr/>
        </p:nvPicPr>
        <p:blipFill>
          <a:blip r:embed="rId1"/>
          <a:stretch/>
        </p:blipFill>
        <p:spPr>
          <a:xfrm>
            <a:off x="4892760" y="841320"/>
            <a:ext cx="2254320" cy="150192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Espaço Reservado para Rodapé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"/>
          <p:cNvSpPr/>
          <p:nvPr/>
        </p:nvSpPr>
        <p:spPr>
          <a:xfrm>
            <a:off x="387360" y="2084400"/>
            <a:ext cx="8327880" cy="3420360"/>
          </a:xfrm>
          <a:prstGeom prst="rect">
            <a:avLst/>
          </a:prstGeom>
          <a:solidFill>
            <a:srgbClr val="05b9dd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diretores e coordenadores pedagógic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vem acompanhar as aulas desenvolvidas nas STEs, observando o cumprimento das regras de utilização das mesmas para garantir o seu uso pedagógico e consciente, com vistas ao desenvolvimento do processo de ensino e aprendizagem de seus alunos, e assegurar a sua utilização, para que a mesma não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fique ocios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590400" y="369720"/>
            <a:ext cx="8128080" cy="1473480"/>
          </a:xfrm>
          <a:prstGeom prst="rect">
            <a:avLst/>
          </a:prstGeom>
          <a:solidFill>
            <a:srgbClr val="33cc33"/>
          </a:solidFill>
          <a:ln w="38160">
            <a:solidFill>
              <a:srgbClr val="339933"/>
            </a:solidFill>
            <a:miter/>
          </a:ln>
          <a:effectLst>
            <a:outerShdw dist="17819" dir="2700000" blurRad="0" rotWithShape="0">
              <a:srgbClr val="1f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dução pedagógica para a intensificaçã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o uso dos  recursos tecnológicos existent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as unidades escolar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Espaço Reservado para Rodapé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506520" y="214200"/>
            <a:ext cx="7408800" cy="792360"/>
          </a:xfrm>
          <a:prstGeom prst="rect">
            <a:avLst/>
          </a:prstGeom>
          <a:solidFill>
            <a:srgbClr val="33cc33"/>
          </a:solidFill>
          <a:ln w="38160">
            <a:solidFill>
              <a:srgbClr val="339933"/>
            </a:solidFill>
            <a:miter/>
          </a:ln>
          <a:effectLst>
            <a:outerShdw dist="17819" dir="2700000" blurRad="0" rotWithShape="0">
              <a:srgbClr val="1f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tribuições da Direção e equip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écnica pedagógica -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Resolução 2.127/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395280" y="1197000"/>
            <a:ext cx="8377200" cy="4664520"/>
          </a:xfrm>
          <a:prstGeom prst="rect">
            <a:avLst/>
          </a:prstGeom>
          <a:solidFill>
            <a:srgbClr val="00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ferecer, à Sala de Tecnologias Educacionais, condições de funcionamento, disponibilizando o material de consumo necessário ao desenvolvimento das atividade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companhar e avaliar as atividades desenvolvidas na Sala de Tecnologias Educacionai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segurar que os professores regentes cumpram, semanalmente, o planejamento das atividades na Sala de Tecnologias Educacionai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zelar pelo cumprimento da carga horária do professor de tecnologia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centivar o uso da Sala de Tecnologias Educacionais pelos professores regente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Espaço Reservado para Rodapé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"/>
          <p:cNvSpPr/>
          <p:nvPr/>
        </p:nvSpPr>
        <p:spPr>
          <a:xfrm>
            <a:off x="826920" y="476280"/>
            <a:ext cx="6989760" cy="792000"/>
          </a:xfrm>
          <a:prstGeom prst="rect">
            <a:avLst/>
          </a:prstGeom>
          <a:solidFill>
            <a:srgbClr val="33cc33"/>
          </a:solidFill>
          <a:ln w="38160">
            <a:solidFill>
              <a:srgbClr val="339933"/>
            </a:solidFill>
            <a:miter/>
          </a:ln>
          <a:effectLst>
            <a:outerShdw dist="17819" dir="2700000" blurRad="0" rotWithShape="0">
              <a:srgbClr val="1f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tribuições da  direção equipe técnic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edagógica -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Resolução 2.127/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1042920" y="1413000"/>
            <a:ext cx="6624720" cy="4420800"/>
          </a:xfrm>
          <a:prstGeom prst="rect">
            <a:avLst/>
          </a:prstGeom>
          <a:solidFill>
            <a:srgbClr val="05b9dd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companhar o processo de seleção do professor de tecnologias, no âmbito da unidade escolar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zelar pela conservação e manutenção dos equipamentos, mobiliário e materiais da Sala de Tecnologias Educacionai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formar à Secretaria de Estado de Educação quaisquer irregularidades da Sala de Tecnologia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valiar o desempenho do professor de tecnologi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99"/>
                </a:solidFill>
                <a:latin typeface="Tw Cen MT"/>
              </a:rPr>
              <a:t>OBJETIVO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1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15"/>
          <p:cNvGrpSpPr/>
          <p:nvPr/>
        </p:nvGrpSpPr>
        <p:grpSpPr>
          <a:xfrm>
            <a:off x="1258920" y="1714680"/>
            <a:ext cx="6670800" cy="4162320"/>
            <a:chOff x="1258920" y="1714680"/>
            <a:chExt cx="6670800" cy="4162320"/>
          </a:xfrm>
        </p:grpSpPr>
        <p:pic>
          <p:nvPicPr>
            <p:cNvPr id="503" name="Picture 7" descr="share"/>
            <p:cNvPicPr/>
            <p:nvPr/>
          </p:nvPicPr>
          <p:blipFill>
            <a:blip r:embed="rId1"/>
            <a:stretch/>
          </p:blipFill>
          <p:spPr>
            <a:xfrm>
              <a:off x="1258920" y="1714680"/>
              <a:ext cx="6670800" cy="41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Text Box 8"/>
            <p:cNvSpPr/>
            <p:nvPr/>
          </p:nvSpPr>
          <p:spPr>
            <a:xfrm>
              <a:off x="2580480" y="3912120"/>
              <a:ext cx="92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N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9"/>
            <p:cNvSpPr/>
            <p:nvPr/>
          </p:nvSpPr>
          <p:spPr>
            <a:xfrm>
              <a:off x="4362840" y="471816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S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1"/>
            <p:cNvSpPr/>
            <p:nvPr/>
          </p:nvSpPr>
          <p:spPr>
            <a:xfrm>
              <a:off x="6331320" y="3485520"/>
              <a:ext cx="92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COTE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12"/>
            <p:cNvSpPr/>
            <p:nvPr/>
          </p:nvSpPr>
          <p:spPr>
            <a:xfrm>
              <a:off x="3441240" y="2252520"/>
              <a:ext cx="184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PROFESSORE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13"/>
            <p:cNvSpPr/>
            <p:nvPr/>
          </p:nvSpPr>
          <p:spPr>
            <a:xfrm>
              <a:off x="3317760" y="3323520"/>
              <a:ext cx="3074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ffff"/>
                  </a:solidFill>
                  <a:latin typeface="Arial"/>
                </a:rPr>
                <a:t>ALUNOS</a:t>
              </a: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4"/>
            <p:cNvSpPr/>
            <p:nvPr/>
          </p:nvSpPr>
          <p:spPr>
            <a:xfrm>
              <a:off x="5839200" y="4556520"/>
              <a:ext cx="73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EM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99"/>
                </a:solidFill>
                <a:latin typeface="Tw Cen MT"/>
              </a:rPr>
              <a:t>ESTRUTURA</a:t>
            </a:r>
            <a:endParaRPr b="0" lang="en-US" sz="4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68360" y="1643040"/>
            <a:ext cx="82296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1. Apresentar as ações previstas, executadas e a executar pelos professores do NTE e STE no 1º semestre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2. Apresentar a realidade de uso da STE nos meses de março – abril – maio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3. Identificar os professores que usaram as tecnologias efetivamente no 1º semestre e os que não utilizaram e qual turno apresentou menos uso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4. Apresentar e discutir cronograma de ações NTE/STE para o 2º semestre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24000" y="21384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99"/>
                </a:solidFill>
                <a:latin typeface="Tw Cen MT"/>
              </a:rPr>
              <a:t>AÇÕES PREVISTAS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99"/>
                </a:solidFill>
                <a:latin typeface="Tw Cen MT"/>
              </a:rPr>
              <a:t>EXECUTADAS E A EXECUTAR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Picture 5" descr=""/>
          <p:cNvPicPr/>
          <p:nvPr/>
        </p:nvPicPr>
        <p:blipFill>
          <a:blip r:embed="rId1"/>
          <a:stretch/>
        </p:blipFill>
        <p:spPr>
          <a:xfrm>
            <a:off x="1428840" y="1643040"/>
            <a:ext cx="6337080" cy="4481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0" y="112500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99"/>
                </a:solidFill>
                <a:latin typeface="Tw Cen MT"/>
              </a:rPr>
              <a:t>PELO NTE - STE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99"/>
                </a:solidFill>
                <a:latin typeface="Tw Cen MT"/>
              </a:rPr>
              <a:t>1º SEMESTRE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9640" y="1571400"/>
            <a:ext cx="3616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Reunião com os professores das STE e professores multiplicadores do NTE (NT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Visita às escolas (NT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Orientação aos PSTE (NT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859280" y="1643040"/>
            <a:ext cx="36180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evereiro – març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(executad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evereiro – març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(executad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evereiro – dezembr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(em andamen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39640" y="1642680"/>
            <a:ext cx="388008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Acompanhamento das atividades desenvolvidas pelos PSTE (N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Curso informática básica (S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Projeto Brasil Ponto a Ponto (S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4788000" y="1643040"/>
            <a:ext cx="361764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rço a dezemb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em andament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rço – abril – ma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 executad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rço – abr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 executado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84000" y="1571760"/>
            <a:ext cx="36162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Curso Tecnologias na Educação: ensinando e aprendendo com as TIC (N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Projetos para I Encontro PSTE (S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4788000" y="1643040"/>
            <a:ext cx="361764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bril – Outub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( em andament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(em andament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7:12:47Z</dcterms:created>
  <dc:creator>Windows</dc:creator>
  <dc:description/>
  <dc:language>en-US</dc:language>
  <cp:lastModifiedBy>MicroCarla</cp:lastModifiedBy>
  <dcterms:modified xsi:type="dcterms:W3CDTF">2009-07-30T01:57:50Z</dcterms:modified>
  <cp:revision>277</cp:revision>
  <dc:subject/>
  <dc:title>TECNOLOGIAS NA ESCOLA</dc:title>
</cp:coreProperties>
</file>